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E23-A727-4EE5-B8FE-43846534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3DF-E611-40FE-8CDF-E6A2D4D1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4CCC9-CFAD-4000-8808-C5041BC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34291-3898-4D8A-B97D-9829D01F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8C774-37BC-404B-87D4-B953AB01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8CE40-575F-43EF-BCA7-BB3F8E5A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B231C-A479-43A8-BE22-8FDABC0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7CF96-5ED2-4472-A713-634A2F1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692E8-F101-4F6D-AAAA-9FAB0C83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4DAD1-CC32-4036-8FD0-F8682A64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6B5A8-A0D1-4E29-A5CE-821E946F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21FA9-3D69-4B2B-880C-AECD5367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279-A7D0-4B20-B0FE-F0D4BA9E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DC612-6402-43AA-9BBA-4F93A2E4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8FF50-6E95-4B81-B858-4725F4C9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0B530-7BA2-4A77-9FB6-63BF921D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A065B-8CB6-4918-A905-448D0AFA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0B37F-8234-4FA0-8B42-087572C5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BB480-1DE0-4E9F-BBF7-BC5E6D93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AE1F0-3DF1-4733-A398-FA1B48A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DD450-8809-45EC-B9EA-5929B90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096AF-2DB2-4FEC-9B60-066CD763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45BC7-6240-4F33-97C8-F2488390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396-893F-47BB-9B60-6FB41F9C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A30F3-4008-432D-95EA-F5DAB862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85EA9-0C19-4D6D-AB38-8C14D429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76112-B6E0-4F43-8EA2-4F9B6A67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4B66A-9EB5-4680-B8AD-8C3FC8CC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B0C19-9569-433F-AFC3-D9EEB575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F747D-AD87-4AF0-A0E8-1ECC24B2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9AC50-00B3-4761-9477-CED084C6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77B59-D6A3-4977-8128-CC2E283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59C7C-0104-40CF-8378-94FDD3D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DC11B-8107-475D-B7D3-41DFE5F2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BA86-72EC-41C7-B525-630FF00F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A9239-C0F4-477D-9843-963B1FCE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6C1AC-4A55-4478-B91D-51F62A5A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CD906-5D5F-4DE6-9D2F-33DDD5D1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AC9DE-2F84-430D-83BE-99AB9898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EB78A-5A57-4D04-B0F5-E6F1692D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E45B8-B670-466D-BD65-10E09E2A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EA124-2580-4CB9-B977-53459D7A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60FF7-D4DC-445B-8711-04DF42C1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6293A-689A-4504-B847-5CE72BE6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719ED-D340-4A9A-83EA-C8D4883A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DD05-7E88-45F3-9569-D0409E5E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822E8-3544-46E9-AB53-E9C61E44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56ED3-2AD9-445D-A4D5-18A90A4B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A87D6-0D25-4337-9B39-3CDB5135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EBBF1-6A6F-4738-83B6-02F758CA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7C592-68B8-4418-AAA0-6E1069E0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F22AC-EDF5-412F-A7AF-C6FBD7DA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8EF54-850E-47F3-9737-54793AB2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26CD9-33A6-48BB-80D6-F8F0FE7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4F607-3392-430D-A308-3C8CED22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B887C-7126-46E1-9E58-5089DFD3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2D4F-E997-4B40-8442-692248C6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C1485-6A2A-47E7-85E5-272AFE3D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0A092-DDE5-42EC-8895-38BEBDD3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AFC83-DCFB-4F62-8FEB-047E3117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1E61D-7BEA-4F47-8F28-B4306ED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C9CDE-100B-492F-B653-FCB44ACD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9A71E-23ED-4A24-9DC1-29F7ABB3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9AC25-9DA4-42C6-AEA0-971CBAC2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F3F8C-AF12-44F4-ABD1-E6809DB0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7C4EB-2A02-4383-87B2-201AD092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EEDAD-E212-4191-A157-BE620D0B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4914-F417-44A9-AFFC-4B078861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34DCE-2F25-4BD8-B25A-ECA67B94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32202-FCA6-411B-BE43-27E1E870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8FF20-DFC5-4E13-806E-CACEE294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B2DBF-9617-47A2-8743-3121560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E90AB-93C8-4BF9-B8B0-73947B6B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CA7CB-2EF8-45AF-9FB2-0E76CF3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12E0C-7FD1-4C5B-8715-65F8FD8A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F6BD6-AA8E-4AE9-AE31-F0714967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A9F67-F564-4ADE-A76A-3D630502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5BDDC-0922-434D-9C1F-FA426039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2A75-1EAB-414D-A0D9-F48E5718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94748-3141-45B6-A0DE-13C9CDF1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A6956-91AB-4F32-AEE9-4BEC9C9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73DD8-CBC2-4BFD-96D4-C9C4AC2B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11D3B-3142-4E81-A3FE-6E3F929D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53000-BA78-485E-810D-DC929801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4912A-C3D0-4E4A-AFFD-1DFB326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3EB46-9602-48C4-8BD6-6BFABE9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A1D6C-7F81-4C66-A436-8C592B17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E9BF4-B9F3-407D-816B-CEB408D2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B0FCA-9F13-4736-B26F-75599444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372E-338D-4602-B69C-6EF9976E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48F34-18CE-44F8-8C79-F8064B54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2CD8B-5186-4E3F-BFB3-2E478887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3B221-C17E-4E03-BDF5-574F5EA2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734CF-9F26-40B0-AEAD-0E961157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AA1C7-16A5-4073-9565-4D9996BF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7CAE9-69E9-4D8A-AA8B-A0C73B66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DB2B1-BB60-4187-AC82-6B56B2BF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EAC7A-ABB8-4E5E-A2FF-94FFB4E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97F52C-B122-4FD2-BC43-09845029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BD798-FB66-4E32-AEF4-9DDCFD21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FF40-E402-4915-8010-9356A04D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CE3026-1383-42F2-BE44-4F2AB141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5063A-1B4E-4192-8CB5-77C64850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6E6E9-148C-420D-9C86-7028EA8F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0970F-6499-40DC-B054-9C9DD7CF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41C30-33E6-4AAC-B49E-03FFB39B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ED887-6C69-43AC-AD5F-206DA864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75486-A3D6-45C0-8A14-6A860AD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8F370B-C1A5-4AB5-9C26-2ED86B20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775A4-196B-4F2A-9B83-DA06B3BD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0E66D-4FD8-4A79-BCAF-401CFE8E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B98-6BCE-43B6-B4B2-B4CD03FD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94FB-9CD3-4937-9819-F653EECF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B9358-C318-43CA-95BC-AEBCBAE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3BE91-D05F-4E97-88AD-69084DE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61540-FC6B-4CC2-AA99-F3CA8C2B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982D0-EBFE-423D-847A-8C2AA0E8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B378B-F48C-4858-B5B5-C6DB21C8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3B455-56D9-43D9-8386-DAED44EE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CF2E8-96F4-47F7-95A4-40AD37D7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409016-5D3E-4D67-B14A-475D9310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5C2AF-C8AF-4FA3-A57C-B0C16DA5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11DE0-8015-462E-A771-0FE4A965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9C80-4D3F-4359-96DD-CC00FBAA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10CF2-CB45-4700-A9B5-3903B046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A6320-E4BF-4FEB-988A-391A1D6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37794-C2E5-447F-AF97-C1EB1568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672C8-8772-4036-9C9A-6D1F382C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62CAF-86C9-4537-960D-5CC86051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61BBE-1F20-4730-A01C-A9D1B376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7BE23-AE39-450E-8675-54674607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53BBB-6471-43EA-994E-64309077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5BA84-5108-4BFC-B430-D06CA3B9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8D744-A59F-4557-8995-E4A57F31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7519-3D33-4C76-A31D-A54B1C53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4EDFD-A4C6-440F-A469-1C0125C7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C92F83-CC99-4D3B-B88E-B634C22E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425C5-BFB9-439E-9D86-E0D3DEA5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A6C5D4-F95C-4573-A3D6-A159CE36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EC23A-1CDE-40B4-9687-4853AEAE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F7133B-1F13-4106-8ECC-3CDE6BBF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CC87E2-787A-4CF2-9FE5-6598E259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027D46-6272-4164-9575-854A3DA1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249B6-FC06-4C08-BA4C-73CB41F9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7200F-F758-4A68-97E4-77EA278C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6696-91E0-4CA6-9163-3CFA17A8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06578-5336-41FF-807B-B7B01C81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46FFD-B5B4-4C7B-9F4E-8016EA54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83F04-87FB-4075-9EDC-AD89C2EF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29ED5B-E466-4774-B891-EEE14B46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AE4C7-7416-47D3-847A-43C6DBA4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D1691-665C-4FA3-84EF-626C88B4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23473-731E-459C-9402-08833BA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D9305-4BB2-495C-AB4A-A2BBBBEB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B3810-F137-400E-8B38-B237A741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881C8-9729-4BE8-9C3C-679E79DA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3830-F0B0-449D-9888-67255FC8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2A610-828A-4E8B-9AF9-35C032C1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72D19-D4F5-44E3-8FEC-710A6B29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6EC8C4-906D-458F-8B64-AC360FCC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B8B0CF-1C05-413C-AD2D-DA4CD13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D933A-F7B6-4303-A4E3-16C14BFE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1C406-CD3B-41D1-BFA5-18B308C0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0D9CE-8CFD-456E-807A-C5B9FE64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DFED72-0195-4934-A230-95986324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21437-BEC5-4713-A369-E531947C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FD2B3-6A72-49C2-9017-3258758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42503-654A-48B1-8797-2528BD0F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C2066E-97D1-4B21-A3A4-0C9F7E32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BC8285-FF28-4478-B607-885F3E7E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DC8A93-BC2B-41CA-8120-50A953A1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E070-641A-4DFC-8362-22FBF4F9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16B7-089F-4642-82B5-EF50EA3F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DF785-82CC-434F-80DA-A3FE99BB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76409-E0EB-4122-A4AF-06A915B7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68A-F677-4F70-82F5-DEED7E43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EED1-5635-49E6-9C50-BEF81F36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A4AC-33C0-4805-A248-8BE1694B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B282-6719-42AF-BD48-044D332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C03F-E461-45EF-AC50-5752303F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80D5E-7285-4474-AECC-11F0D228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7CA36-2C06-4078-9A54-CDBF6585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AD84-6B4E-44A5-89C6-C8B37AD6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65697-02E1-44F4-BA84-E14D4624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F372E-0CAD-48D5-8B8F-5A9F1695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32A38-23A0-438B-831F-4A6129E8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95A-EE34-4957-AA8B-762D3774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360D9-DF13-4EC2-9FD5-0040CB93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3B02-BF49-4C80-89C5-C800FBD1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11319-D7EC-48ED-899C-5E070631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CFB1-49F2-4527-A448-C405CDE2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BB2C-4A00-4EA5-ADAC-11F38794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DA43-78DC-4873-B32E-8C82F161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9F0D-5C5F-4302-BBD3-09A62AA2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44B8F-A774-4AB7-98DB-DEB13B58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EC356-507F-441B-B52F-9B31E25F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BB764-D278-4A47-91A8-FA1DBF8D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02A-A376-4B9A-9B8D-59D58CAE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2A019-27FE-46B3-B3F6-D71FC7C3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8CD9B-9BB8-418F-8BED-AF1B70CA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D3F6-84C7-45A9-BDAE-A02B7395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4D99F-0900-4132-93C1-363037B4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D4D1-F00B-430F-954B-7E6C77C3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85247-DCED-48E2-B9C9-0D3FF24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D4021-6687-4148-97E6-E5032050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33822-8F48-42F7-8C4B-3F5E9EBF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A46A4-54D4-4724-9A52-250B12EB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7A6E9-FC96-4853-ABCB-D1144A3B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30C-27BF-478C-80BF-7E2D544C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BD223-A632-4E8C-9958-8C602C1D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48925-8C59-4953-B11E-2969805F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69D20-927A-4036-8976-D1FBB034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70A4-50B5-40D7-8768-8FBF475E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07B9F-E130-4378-930D-3B1FD24A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FB1BB-053E-41C6-8B69-E129CF38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C0433-89E1-4B57-BF5D-38A1102A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BF736-7378-4358-9E50-784186DD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14C88-F0C6-477D-A49A-41A1D4B9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5811F-AEBB-4FCD-B7EF-982EA404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924-2E86-4662-B949-998B2A77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6EFE-845F-47DE-8951-3DC7F4A5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2CA42-1B65-44DA-A083-834BAEEE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2295-117C-42E0-9FE3-53981F39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79764-9B7A-473C-BA2A-C57BA367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0E4E-B2C9-4F32-82A0-D66D429B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B52B5-9F60-4D52-9942-AE448010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E42E8-50F6-496F-9009-2ACA489A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01F50-446E-4CAD-8633-33F4A985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CEEEC-822B-4ACB-8E95-A9A4C096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93370-C296-4E6B-814A-9356CB66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9E0-CC07-4E60-BE2E-97E8200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15F64-36E0-4603-B621-D9BBAD78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BA479-A559-4333-8C68-3BF2C895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56689-DF20-4C48-827F-8738E230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7D0A7-902C-43A2-BBAC-AC02C01E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4EC8-B5FD-4513-99D8-837188AD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A5621-5C30-4116-AD64-FC9B665E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40B36-033A-4983-A9B3-945373D3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F34FE-E945-4D3E-B2AF-8E238EA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85811-73E5-4640-8F35-9A10A84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FA9D2-B3A1-4265-8CB8-D2CC0324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EB4-4C83-4C6D-BE2E-C34662AB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075C4-F6EE-4C6A-9013-82D6E0EC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ED039-6526-4473-A8E5-9A9BD006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01882-3648-47A7-861E-211D56C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A311C-4CC5-4399-B769-E435375F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B9DA6-A1D9-4501-98D3-5C766823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D6130-B722-434D-B04D-D9271F9F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7ED24-016F-40E9-B810-F8188A07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93047-745D-470E-8A50-CA09EA13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76330-FDED-4369-A1FC-FA1C2A57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EAAD7-D7EB-47A2-A159-87DCA09D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215B-C34C-4A28-9492-92D0BE6EF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0D82-3CC6-4311-AF3E-BEEF2F8E31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A35F-F5BF-46D9-9E10-06A4708701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CDF2-B0D3-456F-8F90-C7C65DF6F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E057-874D-4206-8C05-E2819C8B4E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76F9-BBC2-4D9C-A507-8E7B40544D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1193-BBAE-4963-910D-B3BB03022F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3E7A-EA43-4B69-8F6F-DDD43F3661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A1ED-3215-410D-8F52-546482E8B2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2BFD-B40C-4516-85C9-AFC8AF9510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CF10-AE39-4D80-8B34-5247F82DA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8E80-FA81-4F73-B307-768381226D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05B-2993-48C2-8062-48453484A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1770-AB92-472E-B696-EA8238A306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4262-2270-4380-8831-B9728F81D3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EB89-EB44-4D09-95EC-C0329E6BBB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2004-4799-4468-8E08-9F7ED05225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7F5A-5DB3-454B-A8A3-3694D740A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5BEC-7742-431E-83CD-676006E705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3A26-FC78-4BD3-96F1-868B28B59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4DEE-3AEB-4BA6-8F34-70F8B85B1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B23C-8B7E-432B-9DCC-95E7BE1AC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3149-6905-4A69-ACA2-CB54CBB2A6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31FE-E07A-4094-B15C-65BEC42FD1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AA26-49FF-4732-97FB-8FF1B0CECB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CF40-7066-4923-89AC-B4D4D7BC70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B0A9-66FE-44D4-9C17-64C8BDA46D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5279-B6C6-49C5-BE15-63F61F44B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23E8-5F3E-457A-BFD4-51C9A6F6E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42EA-F724-487A-AEC8-8B8BAC369D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F9B8-4B10-4614-9CA5-F7118DF3D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9422-C478-46C9-B092-6EDA2FED54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3F10-BAB6-4260-9FD7-FD5F1C7E0F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207F-6441-454D-9241-E28A9CC6DB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5908-4655-4A17-B136-AA88EEA1F9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5F16-F179-4FA4-98F8-5974ADA46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A97-7AD5-4C2C-A15C-718043DF58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9F3F-E188-4880-883F-B5329D5381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1672-613A-43E5-94FB-3A8773B56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055-4A2C-4847-B7D1-F34F989E58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3371760" y="3048120"/>
            <a:ext cx="2400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309600" y="857160"/>
            <a:ext cx="8524800" cy="5819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"/>
          <p:cNvPicPr/>
          <p:nvPr/>
        </p:nvPicPr>
        <p:blipFill>
          <a:blip r:embed="rId2"/>
          <a:stretch/>
        </p:blipFill>
        <p:spPr>
          <a:xfrm>
            <a:off x="5000760" y="1868400"/>
            <a:ext cx="1571400" cy="357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2" descr=""/>
          <p:cNvPicPr/>
          <p:nvPr/>
        </p:nvPicPr>
        <p:blipFill>
          <a:blip r:embed="rId3"/>
          <a:stretch/>
        </p:blipFill>
        <p:spPr>
          <a:xfrm>
            <a:off x="5929200" y="2846520"/>
            <a:ext cx="1571760" cy="357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2" descr=""/>
          <p:cNvPicPr/>
          <p:nvPr/>
        </p:nvPicPr>
        <p:blipFill>
          <a:blip r:embed="rId4"/>
          <a:stretch/>
        </p:blipFill>
        <p:spPr>
          <a:xfrm>
            <a:off x="6715080" y="3827520"/>
            <a:ext cx="1571760" cy="357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2" descr=""/>
          <p:cNvPicPr/>
          <p:nvPr/>
        </p:nvPicPr>
        <p:blipFill>
          <a:blip r:embed="rId5"/>
          <a:stretch/>
        </p:blipFill>
        <p:spPr>
          <a:xfrm>
            <a:off x="6715080" y="4797360"/>
            <a:ext cx="1571760" cy="357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6"/>
          <a:stretch/>
        </p:blipFill>
        <p:spPr>
          <a:xfrm>
            <a:off x="5143680" y="5786280"/>
            <a:ext cx="78552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285840" y="957240"/>
            <a:ext cx="8572320" cy="49435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2" descr=""/>
          <p:cNvPicPr/>
          <p:nvPr/>
        </p:nvPicPr>
        <p:blipFill>
          <a:blip r:embed="rId2"/>
          <a:stretch/>
        </p:blipFill>
        <p:spPr>
          <a:xfrm>
            <a:off x="6715080" y="2979720"/>
            <a:ext cx="1285920" cy="357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2" descr=""/>
          <p:cNvPicPr/>
          <p:nvPr/>
        </p:nvPicPr>
        <p:blipFill>
          <a:blip r:embed="rId3"/>
          <a:stretch/>
        </p:blipFill>
        <p:spPr>
          <a:xfrm>
            <a:off x="1357200" y="3970440"/>
            <a:ext cx="1285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99880" y="857160"/>
            <a:ext cx="85442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66760" y="852480"/>
            <a:ext cx="8610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299880" y="1095480"/>
            <a:ext cx="8544240" cy="5333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" descr=""/>
          <p:cNvPicPr/>
          <p:nvPr/>
        </p:nvPicPr>
        <p:blipFill>
          <a:blip r:embed="rId2"/>
          <a:stretch/>
        </p:blipFill>
        <p:spPr>
          <a:xfrm>
            <a:off x="846000" y="1603440"/>
            <a:ext cx="5072040" cy="3571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" descr=""/>
          <p:cNvPicPr/>
          <p:nvPr/>
        </p:nvPicPr>
        <p:blipFill>
          <a:blip r:embed="rId3"/>
          <a:stretch/>
        </p:blipFill>
        <p:spPr>
          <a:xfrm>
            <a:off x="714240" y="3060720"/>
            <a:ext cx="5072040" cy="357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4"/>
          <a:stretch/>
        </p:blipFill>
        <p:spPr>
          <a:xfrm>
            <a:off x="714240" y="4041720"/>
            <a:ext cx="8143920" cy="357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" descr=""/>
          <p:cNvPicPr/>
          <p:nvPr/>
        </p:nvPicPr>
        <p:blipFill>
          <a:blip r:embed="rId5"/>
          <a:stretch/>
        </p:blipFill>
        <p:spPr>
          <a:xfrm>
            <a:off x="714240" y="5500800"/>
            <a:ext cx="8143920" cy="357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" descr=""/>
          <p:cNvPicPr/>
          <p:nvPr/>
        </p:nvPicPr>
        <p:blipFill>
          <a:blip r:embed="rId6"/>
          <a:stretch/>
        </p:blipFill>
        <p:spPr>
          <a:xfrm>
            <a:off x="714240" y="6000840"/>
            <a:ext cx="8143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333360" y="866880"/>
            <a:ext cx="8477280" cy="58482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642960" y="1949400"/>
            <a:ext cx="81439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1" descr=""/>
          <p:cNvPicPr/>
          <p:nvPr/>
        </p:nvPicPr>
        <p:blipFill>
          <a:blip r:embed="rId1"/>
          <a:stretch/>
        </p:blipFill>
        <p:spPr>
          <a:xfrm>
            <a:off x="324000" y="857160"/>
            <a:ext cx="84960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271440" y="928800"/>
            <a:ext cx="8601120" cy="533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2" descr=""/>
          <p:cNvPicPr/>
          <p:nvPr/>
        </p:nvPicPr>
        <p:blipFill>
          <a:blip r:embed="rId2"/>
          <a:stretch/>
        </p:blipFill>
        <p:spPr>
          <a:xfrm>
            <a:off x="714240" y="485784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" descr=""/>
          <p:cNvPicPr/>
          <p:nvPr/>
        </p:nvPicPr>
        <p:blipFill>
          <a:blip r:embed="rId3"/>
          <a:stretch/>
        </p:blipFill>
        <p:spPr>
          <a:xfrm>
            <a:off x="774720" y="587844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324000" y="1038240"/>
            <a:ext cx="8496000" cy="53910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"/>
          <p:cNvPicPr/>
          <p:nvPr/>
        </p:nvPicPr>
        <p:blipFill>
          <a:blip r:embed="rId2"/>
          <a:stretch/>
        </p:blipFill>
        <p:spPr>
          <a:xfrm>
            <a:off x="642960" y="105084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2" descr=""/>
          <p:cNvPicPr/>
          <p:nvPr/>
        </p:nvPicPr>
        <p:blipFill>
          <a:blip r:embed="rId3"/>
          <a:stretch/>
        </p:blipFill>
        <p:spPr>
          <a:xfrm>
            <a:off x="714240" y="157176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2" descr=""/>
          <p:cNvPicPr/>
          <p:nvPr/>
        </p:nvPicPr>
        <p:blipFill>
          <a:blip r:embed="rId4"/>
          <a:stretch/>
        </p:blipFill>
        <p:spPr>
          <a:xfrm>
            <a:off x="714240" y="257184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2" descr=""/>
          <p:cNvPicPr/>
          <p:nvPr/>
        </p:nvPicPr>
        <p:blipFill>
          <a:blip r:embed="rId5"/>
          <a:stretch/>
        </p:blipFill>
        <p:spPr>
          <a:xfrm>
            <a:off x="642960" y="348948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2" descr=""/>
          <p:cNvPicPr/>
          <p:nvPr/>
        </p:nvPicPr>
        <p:blipFill>
          <a:blip r:embed="rId6"/>
          <a:stretch/>
        </p:blipFill>
        <p:spPr>
          <a:xfrm>
            <a:off x="714240" y="4011480"/>
            <a:ext cx="500040" cy="35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"/>
          <p:cNvPicPr/>
          <p:nvPr/>
        </p:nvPicPr>
        <p:blipFill>
          <a:blip r:embed="rId7"/>
          <a:stretch/>
        </p:blipFill>
        <p:spPr>
          <a:xfrm>
            <a:off x="642960" y="450072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" descr=""/>
          <p:cNvPicPr/>
          <p:nvPr/>
        </p:nvPicPr>
        <p:blipFill>
          <a:blip r:embed="rId8"/>
          <a:stretch/>
        </p:blipFill>
        <p:spPr>
          <a:xfrm>
            <a:off x="714240" y="5021280"/>
            <a:ext cx="500040" cy="357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9"/>
          <a:stretch/>
        </p:blipFill>
        <p:spPr>
          <a:xfrm>
            <a:off x="642960" y="600084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343080" y="738360"/>
            <a:ext cx="8458200" cy="6048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2" descr=""/>
          <p:cNvPicPr/>
          <p:nvPr/>
        </p:nvPicPr>
        <p:blipFill>
          <a:blip r:embed="rId2"/>
          <a:stretch/>
        </p:blipFill>
        <p:spPr>
          <a:xfrm>
            <a:off x="3071880" y="4940280"/>
            <a:ext cx="1571400" cy="357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2" descr=""/>
          <p:cNvPicPr/>
          <p:nvPr/>
        </p:nvPicPr>
        <p:blipFill>
          <a:blip r:embed="rId3"/>
          <a:stretch/>
        </p:blipFill>
        <p:spPr>
          <a:xfrm>
            <a:off x="1571760" y="5908680"/>
            <a:ext cx="1571400" cy="357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2" descr=""/>
          <p:cNvPicPr/>
          <p:nvPr/>
        </p:nvPicPr>
        <p:blipFill>
          <a:blip r:embed="rId4"/>
          <a:stretch/>
        </p:blipFill>
        <p:spPr>
          <a:xfrm>
            <a:off x="6797520" y="5918040"/>
            <a:ext cx="157176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36:31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